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20E-35DA-456D-A1F5-D82EF865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56B-9804-4C3F-BE52-DFB26644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58C-9324-453E-A554-DDB1874A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04C-2FD0-40C2-B8FE-3D8A8BC0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F8FA-458B-4DC7-9996-B2AD4A35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A76F-CA04-48AB-9240-2B5ECD14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257E-CBCA-4621-9755-7191E0EB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BF02-9683-4EA9-9580-D02B0E7C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EBA1-C01C-4E3A-B10F-F537CD02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3460-AC46-404D-B5C2-44651BA3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9BF8-2671-4191-8D97-A9888E60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955-D03F-4316-9C8E-158DB07B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B539-A081-463E-8BA8-7E86FB1C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87DB-1395-4BDB-9B46-94F8E66D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0727-E475-464C-A994-489A69CB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AD29-C150-4F9F-B28D-96DAC167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792D-997F-400A-B976-8962F2D0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C630A-4094-4F69-80B2-83D1038E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E7698-5530-4A5F-ABFA-D26685BF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35DEF-DC7B-4430-A554-5379CD21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5567-7BDA-49DC-A158-64115CF8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C207-D6DC-49B9-904C-03CD21BD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F88-96A3-49ED-ADC9-B0AA266D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0178-D04B-4C83-97AE-FDE6C152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645B-A3F7-48E3-AC22-3A2D9191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D2274-BA33-4870-A166-5754CCAF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F3E6-8B4C-4BB9-B134-60C288EC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FD0A8-F60A-402B-A356-CE310C05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2684-E4D1-4A7E-A293-DBE41BF2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FD4E-C27F-410D-82F5-3C77ED43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5F3F-01CB-4BF3-BBE1-3998E848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CBC8-AC03-4086-AA74-8C6B1D19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1D9F2-857D-4C89-85E4-577C3EEE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CFC6-E6AA-4BDC-9A14-6D511CE7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97A23-0284-4879-9FB3-D02F5940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FD651-5F76-4F97-A745-54EE4EAF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A5ACA-06A5-4105-8A10-D0FEEE83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3F936-A53A-4443-9202-C1884036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9D536-9E16-4505-83EB-50CE7A28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AC5F6-244F-41D5-89E9-00BF474B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24D18-71F8-4C27-9637-5A3B6168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C5873-9A7F-4BC5-82E2-658C28F7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110B5-B6D4-4285-83CF-55CE138B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AA6-1314-4CDA-8C4B-B47A5A6E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BA7-0979-4171-8165-C226F273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5588-4687-4CE6-876D-4E665165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946-D211-4590-A1B6-A0FEDB7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327-67EF-431F-BF4E-0D8D098E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EA48-5027-41A4-AB50-949B7EE16C1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0E70-1FDD-4604-8015-8CB7BE7F94F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F83B-28B4-4304-ABD5-CE8F1C5941B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6012-0F69-410D-9865-E78BE66472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youtube.com/watch?v=11BQQvVy8LI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7791480" cy="1292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2114640"/>
            <a:ext cx="6307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an we make a bubble that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sn’t round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792468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圓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74040" y="137160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泡影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late this to as many ideas from our class as you can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9512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E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h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s of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di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fere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bserv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34:23Z</dcterms:created>
  <dc:creator>Edward Robeck</dc:creator>
  <dc:description/>
  <dc:language>en-US</dc:language>
  <cp:lastModifiedBy>Edward Robeck</cp:lastModifiedBy>
  <dcterms:modified xsi:type="dcterms:W3CDTF">2010-05-11T14:51:02Z</dcterms:modified>
  <cp:revision>2</cp:revision>
  <dc:subject/>
  <dc:title>My Favorite Bubble</dc:title>
</cp:coreProperties>
</file>